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A33-ECC9-4717-90F8-626D4421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1B1-85E7-4CDA-9FC7-07552A12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12C-B2B3-4FB6-8AEC-BF8EF964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55F-7B05-4165-A7D5-53ED8C96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B575-6C00-47E1-9713-5CF216E1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CCC-7D41-44AA-A0E6-6B76125F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7B4B-09FF-4324-BAD8-9B9C4A21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C92A-C667-463D-BE39-BFF16F0D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1D7-E4EE-49F4-843C-67FEC7EE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C4F-78A8-43F4-BC5A-8BFC5F26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89A-C774-40AA-B630-2EBCE931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205-212D-4F8D-85D5-CDCAA1FE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388C-5D36-4F77-A4FA-65A1F130A7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7614"/>
            </a:gs>
            <a:gs pos="50000">
              <a:srgbClr val="20fe2b"/>
            </a:gs>
            <a:gs pos="100000">
              <a:srgbClr val="0f76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50920" y="3284640"/>
            <a:ext cx="8713800" cy="1409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924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 Antiqua"/>
              </a:rPr>
              <a:t>Как складывалась геометрия?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ЧЕТ И ЦИФРЫ  ИНДЕЙЦЕВ МАЙ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ейшими цифрами у них были чёрточки и точки, которыми записывались числа от 1 до 19. Точками они обозначали единицы от 1 до 4, чёрточкой — 5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ПОЗИЦИОННАЯ ДЕСЯТИЧНАЯ СИСТ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й системе для записи одинакового числа единиц, десятков, сотен или тысяч использовались одни и те же символы, но дополнительно помечалось, в каком разряде они стоя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не указывать имена разрядов, то число всё равно можно прочитать, так как у каждого разряда есть своё «посадочное место» — позиц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rebuchet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20fe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fe2b"/>
                </a:solidFill>
                <a:latin typeface="Trebuchet MS"/>
              </a:rPr>
              <a:t>УГЛУБЛЕННОЕ ИЗУЧЕНИЕ ИСТОРИИ ПРОИСХОЖДЕНИЯ НАУКИ ГЕОМЕТР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20fe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fe2b"/>
                </a:solidFill>
                <a:latin typeface="Trebuchet MS"/>
              </a:rPr>
              <a:t>ПРЕОБЩЕНИЕ К ДОСТИЖЕНИЯМ МИРОВОЙ ИСТОР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WordArt 5"/>
          <p:cNvSpPr txBox="1"/>
          <p:nvPr/>
        </p:nvSpPr>
        <p:spPr>
          <a:xfrm>
            <a:off x="684360" y="3357720"/>
            <a:ext cx="7734240" cy="17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Старинные системы счет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9"/>
          <p:cNvGraphicFramePr/>
          <p:nvPr/>
        </p:nvGraphicFramePr>
        <p:xfrm>
          <a:off x="0" y="-1440"/>
          <a:ext cx="9144000" cy="68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609480"/>
            <a:ext cx="7773840" cy="555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rebuchet MS"/>
              </a:rPr>
              <a:t>Сотни тысяч лет до нашего времени люди занимались собирательством, охотой и скотоводством.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Trebuchet MS"/>
              </a:rPr>
              <a:t>Постепенное совершенствование жизненного уклада первобытных людей способствовало возникновению у них потребностям считать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ИСТЕМА ЗАПИСИ ЧИСЕ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68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ЕРОГЛИФИЧЕСКАЯ СИСТЕМА ДРЕВНИХ ЕГИПТЯ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ло 3—2,5 тыс. лет до новой эры древние египтяне придумали свою числовую систему. В ней ключевые числа: 1, 10,100 и т. д. — изображались специальными значками — иероглифа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6469200" y="1413000"/>
            <a:ext cx="2674800" cy="5445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0" y="5657760"/>
            <a:ext cx="64371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ДРУГИЕ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оме египетской и римской к иероглифиче­ским системам чисел относятся финикийская, пальмирская, критская, сирийская, греческая аттическая, или Геродиано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вестны также старокитайская, староиндийская, ацтекская иероглифические систе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РИМСКАЯ СИСТЕМА СЧЕТ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211640" y="1557360"/>
          <a:ext cx="4500720" cy="4206960"/>
        </p:xfrm>
        <a:graphic>
          <a:graphicData uri="http://schemas.openxmlformats.org/drawingml/2006/table">
            <a:tbl>
              <a:tblPr/>
              <a:tblGrid>
                <a:gridCol w="461880"/>
                <a:gridCol w="636840"/>
                <a:gridCol w="434880"/>
                <a:gridCol w="657000"/>
                <a:gridCol w="471600"/>
                <a:gridCol w="606600"/>
                <a:gridCol w="123192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я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я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    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M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MM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8" name="Picture 267" descr=""/>
          <p:cNvPicPr/>
          <p:nvPr/>
        </p:nvPicPr>
        <p:blipFill>
          <a:blip r:embed="rId1"/>
          <a:stretch/>
        </p:blipFill>
        <p:spPr>
          <a:xfrm>
            <a:off x="0" y="1484280"/>
            <a:ext cx="3419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АЛФАВИТНАЯ СИСТЕ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780000" cy="508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924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ШЕСТИДЕСЯТЕРИЧНАЯ (ВАВИЛОНСКАЯ) СИСТ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564000" y="1811160"/>
            <a:ext cx="5580000" cy="504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179280" y="4076640"/>
            <a:ext cx="3241800" cy="558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0" y="1917720"/>
            <a:ext cx="67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стейшими цифрами в их систе­ме служили два знака: вертикальный клин - для обозначения 1, и горизонтальный клин — для 1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3"/>
          <a:stretch/>
        </p:blipFill>
        <p:spPr>
          <a:xfrm>
            <a:off x="0" y="5300640"/>
            <a:ext cx="3564000" cy="6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ерентьева</cp:lastModifiedBy>
  <dcterms:modified xsi:type="dcterms:W3CDTF">2010-05-24T11:32:38Z</dcterms:modified>
  <cp:revision>3</cp:revision>
  <dc:subject/>
  <dc:title>PowerPoint Presentation</dc:title>
</cp:coreProperties>
</file>